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3269-B2E4-41EE-A5BE-95ADD30AD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EF41-D9F3-4EF2-93CD-EE50C0BB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523334-BD0E-4C5A-B203-188E8451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634E63-8111-462C-ACF4-A3F9DAE5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E68BFF-4258-49A9-BC3F-A60F6BB4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F63784-1C8C-4E83-A46C-48E0C2BD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720F5B-2734-4928-B439-F4504C28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0095D2-A8C4-4620-B1F3-083EC434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0E9651-6965-4A48-997F-D27C5D98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863EFC-1367-4906-ADA7-6E3AC383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56B573-A28C-4976-8DA4-3859204B0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245F22-9227-496A-875B-9A53FE138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DACC-87D1-40F9-9CE2-0185165C0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9D0721-B96D-4537-80E4-7DC4DD22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BC7E33-06AE-4BB1-B828-9077DBFD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6E8E4F-0731-4F65-9338-E100C5AC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B66B24-B061-47CD-8264-30616A39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FD3C97-9083-4298-AC88-58726EB5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37AE1F-1C1A-4511-8744-576BBC2D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175773-C3F5-4617-A6CA-9ED5DC83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AD3F14-B384-4677-A21D-A1940F6C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FA847B-FA0E-4287-A783-3EA3BA5B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92DDB4-73EB-4DEB-92F0-338289AE1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BD39-4235-4023-B066-6D0C7E033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F06CA2-59F3-44A1-BA3C-8694FDCD8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B5CAC-0254-4DC6-85BD-A6950EB5F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A4363-187E-4E23-9343-6A96B683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096CD-AD28-43E1-AA34-9B39B10A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00630-05F4-496D-B36D-1C363108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F2820-F0D5-4DC4-8ECC-9C2446C2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0E70E-7672-40DD-AF17-A9B3AADE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ED1F9-C60B-417E-AB8E-4B4AF520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9FF93-8F3B-4693-BA6F-42C15FA0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A453C-6890-47E7-8D3E-F072DEA7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8CCB-A0FD-46C7-9F9E-BB285540C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059B9-C7BD-4DAF-8D2F-B96E19DB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F1539-67A6-4E89-BA38-C75524D0A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A01CB-B9E1-42E4-B78A-2F69B128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61F3BB-9E04-4814-9189-9576EBC8E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117D02-0C01-4E38-98AC-90781C5F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375DDD-3927-43D9-A08D-2FC40628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CEAD81-5200-4A5B-9BBD-20D43BEB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D53E79-1B23-498D-8733-BACBE537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CF770F-09D6-4683-9047-9D5309E3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D6EEBD-3A03-4D7F-A9C8-14FDD4C0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BA6A-8AA1-4011-8409-E45DCD56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594019-CB0E-4F47-A457-394785D4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7796C2-046C-4D9C-A5C8-0B4F8111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859006-673D-4338-AFCA-3333752A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80FB67-BD29-4FA4-8072-8CF46536B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7232F7-88CE-4C9B-9F96-ACBB22EFF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A11F-E58A-46FD-A8EC-568B307E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64D7-81EF-4FD7-8690-15D7C13A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E1AF-4EA0-40D0-87B7-2D1C336D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6691-2CAB-409C-B144-E280DBE1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C0B7-7150-4340-91AB-C047692A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51BA-D651-41C9-8528-326EC08C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E737-C1BE-4424-A07A-50F61C76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8662-0257-4E29-A009-D8D5FF72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0591-6014-42F7-91C2-41F3975E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1972-913D-4B8D-BF3B-1CD894FB2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275C-D18B-4899-879D-97D18CE78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BA07D-59AD-4453-99AB-B19FDCE8C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23B93-96D3-4808-9EEC-2C5950FE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172C8-B294-40D6-BA00-6392C82D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8D1B4-5719-43CB-A422-66A71B77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C1E60-54A9-4C6F-AB51-62682F93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73CA-BB02-4C91-8115-D1197787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B9F85-FC2E-47A2-8CA6-BEB0ECD1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F0FB8-401A-432F-BFC3-020D3A17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4843E-175B-476D-BD17-442817AA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A86B4-6B7D-4BE3-B9E1-A7320864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0CFAF-28B2-4AF1-8353-0E5B0153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4B005-CA64-47B2-9015-9B1B824D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D3051-4BE9-4C4F-8FCE-DE6ACACFA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E9DB9-DE29-4ABA-B27D-6C9E981BA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6BA30-DAD5-459C-A823-D32F8149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5FF0B-EE80-4487-A551-05843F10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6C10-E4F8-44AD-874A-40C4520D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144AA-B939-4FEF-825E-883F249B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4ABB0-5ED4-45D9-8F8F-0EB15800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8C37E-2408-479D-9B79-9791C7B3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970EC-48B1-4276-987E-F3474C6E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5AF29-FC86-4DC1-BC26-99BAF61A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00F5E-35BD-4851-B964-F28581BA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9F44E-C535-4824-B363-56D4B5B8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E1470-BFE4-4BEC-BC0C-7FB1F9F14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44DE0-65C7-4CA2-A820-C799C72B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438D8-F8DB-4EDF-8AD2-2120FD72B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FC4E-1586-4A57-8E48-295D9B2C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9E570-6B27-4365-A7AB-3916DBFD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EB08B-5384-4320-AB31-138E274A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936E8-5BC2-4E92-B735-ED649117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2440E-A1A7-4308-92D1-57736567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1DC8D-18CB-482F-9991-304014D5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B0C04-7C2F-4C28-BCC9-11AC8E47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F9FE3-D661-4187-BFA9-1BC3B163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3FF75-EBA1-4CE3-AB84-ADAA2A12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E66C3-C1C1-4D10-9AFE-4A614F78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92E64-AC69-49F1-9146-E27E32E3B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6E9B-26A4-4BE2-A283-71B7130F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E3111-B28B-4BE6-A2DD-52C3DAFA6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4D136-C89C-4D84-86D6-A7CB90C0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841B7-7CAD-4B44-A113-8E3AC8D8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FBA68-C50C-40E0-8460-CF4579E4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53847-C11A-4170-A4DE-AE2FDF0B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F45C0-8876-4A61-BA25-00CAF8B6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3E7A3-877A-46F9-8F68-39926C7C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4D91C-4D1F-4625-B5CA-786F0825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3A68C-B402-45ED-98E4-4B32469C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308A6-4645-44D6-91BC-C3E387B9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46E1-86AF-4076-A944-CB3DFDD3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05F55-71C3-4051-BE7B-B79D7CBC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E7673-1848-41B0-BE1E-F7C8C2EDB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F8583-0537-4B78-B44B-852AA801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A4631-1588-4D0E-A39E-5966B2035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FCFBD-DE67-4061-9882-D5AC5C62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BC7DD-7C45-4B4B-A649-E99ECAF3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3071C-2A7D-4622-9B76-506ABCF2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C7D77-6EBF-4FC8-9AC1-A0A6D190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E2725-8BC5-4E22-A3B2-21CAEBCE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2326C-0F63-4212-A192-651CD7EA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7F25-F6CC-4C4F-B34E-8EAE8311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2C6F8-70CF-4978-967C-6D92D50A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3CCAE-AD7F-4662-9A76-CDD45EE1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F35D8-9E27-4D29-B49D-FC8E09D8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7D3B4-E0F9-4C48-94DD-E92969BA6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86429-92AC-4E5F-B359-DD586EA0B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176FA-46B8-42C1-B22F-62C6B867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0CB7B-EAB3-4636-86C6-5DE0734A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14A9A-645A-4CB8-BE62-80A1811D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DE0AC-B363-46F1-84A3-81501339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B21FD-6FE5-412F-A76D-70CA3892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4072-1750-44BB-911E-A9DEA097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2E563-49FC-4DB8-AD49-7D76300C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541A7-CDD9-480B-92DB-D2DC9B82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66AF9-929C-4440-84F8-E3DF5073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C7A37-E72A-4E88-8D90-8CCA61AF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827AC-9CC1-4B2E-8515-72286E3E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048E3-4048-4219-B04E-E37DC4656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0794C-D88A-4852-8ECA-3472E19FF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77CB44-F57C-49AF-A9CE-50B7F2D65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B9E069-1418-4A40-B165-25FA4C29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C6F4A8-1CAD-4A1B-AEEE-3DD91AD2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BF98-1B59-455F-916D-CEF8DB2EE5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CB71-08B4-4EBB-A2C6-A205C30A01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2CA8-CE22-445F-9484-93030768E5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D877-1636-4DC4-80C0-42E1994EB3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46F5-CC53-4628-A372-FBF0869008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26E6-65FC-43F6-8834-FCBF8EDAB3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C472-494B-4F80-AB62-144294CFFA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4A02-212A-4A60-A4CC-424852055B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83D6-260A-4373-AD1C-B4348225BF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3021-7E56-40FD-AD15-F3D1F904E4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0814-C83D-4697-B693-B54E7E936C3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A606-608F-414E-8AB2-770C7F6B27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PRESENTATION TO THE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EDCO LIBRARY COMMITTE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LINDSEY RINDER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DIRECTOR OF ENGLISH, ELL, AND READING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BELMONT PUBLIC SCHOOL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JANUARY 13, 2012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CCSS and Information Literacy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nformation Literacy Standard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The Common Core embeds so-called 21</a:t>
            </a:r>
            <a:r>
              <a:rPr b="0" lang="en-US" sz="2500" spc="-1" strike="noStrike" baseline="30000">
                <a:solidFill>
                  <a:srgbClr val="000000"/>
                </a:solidFill>
                <a:latin typeface="Georgia"/>
              </a:rPr>
              <a:t>st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century standards and information literacy into the ELA standard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Of the ELA strands, collaboration between the library and classroom teachers can be most helpful for the Reading for Informational Text and the Writing strand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s students grow older and standards increase in difficulty, more support from the library will be required.  When students are younger, it’s important that they learn how to use a library so that they can focus on specific research tasks when olde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ESE’s Emphases: Text Complex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ving away from a focus on the “just right” book—students need to be supported as they reach for grade-level text (see Shanahan 2011; Glasswell &amp; Ford 2011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nterest in finding well-written literary non-fiction (recommended author lists have been revised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t the high school level, a focus on literary criticism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ESE’s Emphases: Close Rea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Emphasis on diction and syntax analysis in literary non-fiction as well as literatur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2" marL="272880" indent="-272880">
              <a:lnSpc>
                <a:spcPct val="9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Analyzing rhetoric, author’s point of view / bias, source validity in informational text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2" marL="272880" indent="-272880">
              <a:lnSpc>
                <a:spcPct val="9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Attention to craft and structure as well as content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ESE’s Emphases: Writing to a Sourc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Writing as a reading comprehension tool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Using textual evidence to argue and persuade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Summarizing/synthesizing multiple source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w Can Librarians Help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elp teachers identify informational text (especially excerpts) that align with current curricula and can be used to teach new standards (see handout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elp teachers plan research experiences that are manageable in terms of time and resourc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rite a central research skills curriculum for the district, identifying how each discipline contributes and in what sequen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Can Librarians Teach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ach students how to manage a self-generated research question, especially one which needs to be refin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ach the selection and use of book reviews and literary criticis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ach the evaluation of sources for validity, point of view / bias, and relevan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ach strategies to avoid plagiarism (note-taking, citatio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much more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00:55:14Z</dcterms:created>
  <dc:creator>lrinder</dc:creator>
  <dc:description/>
  <dc:language>en-US</dc:language>
  <cp:lastModifiedBy>lrinder</cp:lastModifiedBy>
  <dcterms:modified xsi:type="dcterms:W3CDTF">2012-01-11T01:34:09Z</dcterms:modified>
  <cp:revision>5</cp:revision>
  <dc:subject/>
  <dc:title>CCSS and Information Literacy</dc:title>
</cp:coreProperties>
</file>